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847-5654-4A0E-98FC-24929532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786-4771-4584-A440-754ACB8F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DE7C0-9FF0-4018-A7CC-B58956BA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09F06-B617-454D-9CEC-00143D8E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19F52-13FC-4F2E-984D-1C412773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4D86A-68AB-432E-A2B2-6AC9D1FD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31EBD-DE44-42CA-89CD-D906E55E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D30C8-079C-4036-8895-9B74F662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BDBBA-9391-4F89-B644-BFA9998C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3F583-D2C8-45F5-A490-E55CE723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DCDC3-FDDC-4947-A41B-6ADEFAFB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35FF6-246F-4AE0-900E-FECDBE1F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071-29C4-4486-8178-56CB0C82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F5FEE-B6F0-470F-AE12-CACBAC5A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7583A-9928-46E2-8579-5EB1B212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594D0-04E4-4498-B230-EF56A461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07F49-CFD5-4B82-BB38-5078FF61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B176B-18BE-49A2-93A9-2669D559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4966A-54FB-41E8-AAED-AAEB7D32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BF600-E5E8-4373-8101-50802D53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EDBDD-D499-489D-AD65-B5641290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E6055-B769-4EC5-866D-395E0913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EA444-9052-45BC-95DF-258E9A8F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483-9C59-4406-A422-7D88EE6C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F49BF-B556-4DEA-B3BD-276977C9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18ACA-3ED2-4702-9186-83458484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3D3C9-EB9D-4435-A17D-2099E8D5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ACE3C-EE02-46A7-AAF2-00AE136A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BE887-DAE3-427F-B2CC-2726FE9C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465C3-E869-42EC-AAAC-6C58C0A7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38F99-C8D6-4E29-86F8-D2339107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DCAB1-03F8-4BDF-94AC-308967A1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66542-006A-4846-9ED5-4C8BB601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13509-F6B3-40ED-961E-92B63F65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FDA5-9091-43F7-BF9F-FFA11419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10A6E-1591-4630-AD7D-178A5613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CA515-A411-4F3C-9EEB-33862A29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33DCA-2F44-4F50-8900-D7D20160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4B790-B1E0-4D19-BC10-48E7206E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39945-3BD0-4AF5-AF82-6D77EA53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55629-17DB-4016-8551-62C6AEA5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80B23-AE8F-44DE-AF7D-1223EC00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F605D-9AEC-415E-9FDB-C6E5424E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40154-9C65-4F69-9645-FE03C78C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B3F51-FB43-4183-A89E-4E1F67A8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F5DA-2836-42CE-8858-5F3BDFDC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CBE0C-0F02-4198-AFBB-3B56F069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1F66E-4193-4AB6-A6DF-3D333969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2C05D-7BF3-4C1F-9269-6D148E62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1A187-AEEE-4750-9570-10E8EF21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A8B46-05D8-4B52-8B66-81AB126E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C9460-1A20-4A76-A70F-829C52E0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7AC42-5E10-484F-BAB4-35EE1B56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57B5E-72C9-4F6A-93A7-E19A9BFA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9E7C1-3C1F-4033-8B34-484BE9D7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91E82-3473-4B85-875E-B1ED7B26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53A1-9E40-4F1E-8CCF-EEA56344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94DC1-CE81-4172-838E-75A3BD6B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5B33B-AE62-45BE-B52D-C56EAF4E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50B80-237F-4265-8053-411212B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11F25-59B0-4B01-BABE-050AB5F6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8C711-C298-427D-9DD8-158C1D7D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C2131-39E2-4B87-BA5D-634BDC18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4517C-A30E-43D9-8A01-915A6AD5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C6E03-9BCC-4C9D-A1E5-845BB4B4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9E02F-C502-4EE0-961C-7ECA3FCE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D7A24-E1C3-466C-B093-8CADF94E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177A-45CA-41F1-8128-75E95C8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C5BB8-F545-44F7-B9FE-01CE064F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0DC53-37C9-4CDF-9E6E-ACF01FAD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DB55E-0AB3-4771-B095-CD6AE797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125BD-0888-4DB7-9FEC-53484789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48E24-B865-4AE3-81B2-4E731507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B6FB4-238F-48DE-85D6-F5938B9C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8D32D-016B-4418-B820-196CE3C1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5B5B9-36F2-4313-8D0B-48A0451C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B472C-BBEE-4803-AB63-364CD036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12785-CEB6-4601-98BE-988C47DA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DEED-061A-4BC9-993C-130661FE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191DE-7DDC-4ABF-AB76-2597211C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D1379-D560-4FCF-9512-CF91C9EC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49A7F-C515-4DAD-98F5-3F95C11D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9DFB6-47F4-42FB-8BFD-A27469EF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201B4-6F44-46F5-94F3-CC7DEE69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5C77D-4D6A-4EA5-B0F3-FB4BA794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7EE0D-2CE9-4950-9B5F-EFD05521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097D77-AC27-4A04-91A8-4BF3CC95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F90FA-1C2C-4AA4-8250-97CE63FA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D09C8-C918-45DB-AEFF-95E51003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6AD4-C3B2-44C3-B3C0-B6553E02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03D9E-6438-42A8-8574-10F7AF16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AF829-1BF0-4637-B9E8-C12E3759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B514A-D326-4139-AEA6-CDB4DBA7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BF375-3ACC-4A8F-B3BE-C13961CB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0EE706-F290-418D-8001-EA7AB12D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3380E-2E18-4545-A3AC-0CA36A74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F544CF-EC2E-40DE-814E-79A071F1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C49D9D-E37F-438E-AAE9-B906CA7F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341A6-F3AA-4632-8E1F-DC54B3F9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8E18AE-6539-4929-A9DB-76F8B09D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B2A3-67D8-4633-B325-D17EEBD2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C75B0-2F1D-42C1-9761-3D2877D8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A4DEE-D3DA-4C27-8890-FE9735E2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A7C53-D8E3-4D91-B8D0-1EC34907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F751D0-F894-40BF-9BD8-08BC887D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0615E-391D-40E0-BA72-3848DB06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A8533-09BD-4259-A901-7AEFF7EA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7995EF-6991-4C6B-98BF-F7BF9208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B0E2E-DE77-4CB8-8172-149980BF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78B7F-D421-4389-8578-F50FD671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D957E1-4392-4175-8857-FE598376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31F-5CCD-4A13-B1F4-D2B5A2F0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9164-5253-41FC-8705-4044BC76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DA1F4-85A1-4720-94F6-B16448E5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C170CF-B92F-487B-8BF4-8A66E908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DA4BF-DDC8-4A07-BE15-AA9AAE57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0E8C4-6FD3-4539-9B32-FB3F5C01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98630-4CAD-404E-9F61-F5D2D2F1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163728-6605-4D39-9233-B2C01700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4FE48-E444-4734-96E9-5E843C09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C1B4D-C33F-46A6-AD93-97F1D697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CEF654-9CEC-4BC1-854C-3B910487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DB29EC-50D5-4556-9814-B5A0BB17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45FF-B3CD-477E-B061-D58E8590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F2508-9B7E-41E2-B1BB-631936AB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C68E5-F3FB-4861-A03D-4EC653C8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A2217-C919-4627-BA90-ECD143AB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60F5AF-C478-4731-8474-09827E8A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9B2192-59AF-4E56-85E6-5D7F7252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3F54D-BEE0-4E46-B3DA-93A514C7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AC8A0-C36C-4639-8A16-CE02B6C4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E434A7-3A1A-43A6-A86F-BBF05F38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6A8F1-509E-4BD2-A2E1-DD72D436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E8E593-9A93-44CC-AC5D-64ED6170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5B18-8B04-4E13-A6FC-5B55C56F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5088AB-EE72-44B4-843D-F3AFC49C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F6AE16-B62A-4C3B-AE91-872578AD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3071C6-75D0-4D7C-83DD-E7C5C03A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8A9A71-B512-4794-A34F-D2AB8032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B2EDCB-FD20-4A24-AFEE-43A5F409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A207F0-DC68-4A3C-9BA7-5E768425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0C40B0-AF91-4D47-BBC6-599BB7BE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735C7B-3E56-46D6-9239-F26234C4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D9345-AD68-42F6-8170-FBA3D08F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AA842A-791F-43FB-9057-1F086C40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5B82-9F82-47A1-A18B-392080E4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1EE712-B615-4FFD-916A-8A8F3ECE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8F8A40-2A4C-4330-8C3D-A3B6BB22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DEB6D5-ACDB-4F25-A0D9-122C8245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52A5A3-A918-4F64-B67C-9A645538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E1621B-6240-4DC8-AAC7-4BDEB207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1B5AE7-FB30-4AAF-8217-C1B84A05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714ACC-A04B-444C-86C2-0C5D92F5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CAEB18-48A6-44A8-8716-9B83E75F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7860C8-A023-46DD-97C7-5B397CD5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698560-76A7-4154-A00D-191266F1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A8F0-7FE4-45D5-9B55-2D50BDFF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CE800D-62D4-46FC-97DC-32B50274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B1C347-FE8F-4B91-B2A3-4D969D3A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3EDA99-49CF-4853-9CE7-3A3FF607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3636F5-0CB6-4C64-A009-5AB44923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D3EB71-7931-4F05-8F99-70D20775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4631DC-3533-465F-B659-2F38DE98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0AB8DE-C6BF-43B5-8CC6-7C1BED02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816FA0-23E6-4FB2-9D11-DA62E8B1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DB1A86-B1CA-41C7-89A9-F608727B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A94540-8C04-456E-8F14-D155D3BC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97E7C-FD62-4E98-9B2C-FD62B9D5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1A9059-49D0-4F85-8225-129E8042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4B4379-17B9-4997-8C7A-F571868C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96BB1F-C584-4B0B-BF13-ADF03EED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E43E9-075D-4EE8-BA1A-52FE69A7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37CB6-7099-46D1-A0C9-F72731CE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1DB39-6C92-4307-8DFE-B9727925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FDE7-CDD1-4770-A7AA-AB83D17A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5FE-63B5-48A4-86A8-1CEF2D8D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01AE-B13D-48D3-8EE3-1B998064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4F4C-8C3D-4D18-BE27-15A17C9A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2C1D7-388F-4BB7-B703-C5C85DCE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27F87-420E-4AA2-9E51-F714674D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7D9D-8102-4C29-819E-5A3A93CF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F60C-936F-465C-A8F3-0969C353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55A5-2507-4EDA-B7EB-9F369499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86BC6-BBF4-4465-B74D-3DF0F415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8E11-4FBD-41C5-9C0C-068B066E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03436-1690-4805-BA3F-6475BCE9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C43-55B9-4467-AC56-94616F0B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5369-C00A-4F47-8E1F-2DDC1F74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1FC48-0588-4504-8ADC-1DD2C385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BDB6-E537-45FB-86A3-10DF86DF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3BC8E-90AD-4BE9-BC0E-F82DEEEE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A751D-877A-44B8-BC87-9A95FD47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E8447-F644-447E-8AB9-A3802BD4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87E9B-0936-4A58-9279-F188F141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95659-B801-4EDC-B588-68C06B76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CA29A-5939-4854-A0AC-35152D1E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2A5B2-A1A7-4906-8CB8-3A0DAEF2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ACC-F530-4D60-97BF-7681B9D0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3F468-FAF8-49CA-8F0D-4FBB9C4A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1FBF3-080C-4411-BEB5-91D0691C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57EDB-887B-47BF-89AC-EEFB23F2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0787F-E786-4D8F-A30C-81EF3284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AFF72-AEE1-4369-A0E2-941D75C4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9E084-9E41-41A0-AE5E-02C66B05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79B80-FE12-4AFF-BE6E-89EBBDE3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427D3-DEA0-4288-8ADB-287E0F90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56FF9-D9E9-45B3-B235-C08F3D8C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3EAA8-97E3-4B69-AAC7-03E9699F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D35-25AD-4205-B6B7-2F6B6C65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CF394-BB32-4D70-800B-357948F5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F6D00-0C8E-4A75-A631-852384BF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27855-E3AE-465E-9329-E8C64E12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488A5-6F1D-4F4F-AAC6-AD901FE1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80B0D-3937-4A3F-AD8A-08F98BDA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4E68D-9E38-4432-80AB-B411076F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6B18B-6713-478D-A2CE-1953259E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F485F-6C57-4A9D-8B02-360E0278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99C57-1B88-4A04-9850-468FC0F3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80FC6-01E5-4858-A822-F0996AE7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833-38F8-4E89-9374-669766C6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84940-5B16-49BA-9931-F1719044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AB0E0-A078-4582-B0FA-3D2E2175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DC384-6352-4554-BAC5-659ED53B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E2611-3173-4035-BD22-838C9374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E74CA-C317-4A69-9785-9A881A7F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7E48A-C1CA-45E5-8AD6-5D784168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E8E26-E012-4EA7-B639-EEC5CA4C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37A3A-D405-44CC-9401-245B7BE7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57DB5-D915-44AE-B823-6EAC48BD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11797-F6A4-4E35-B1CC-B3DD8A75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F29-6E5D-4E92-8FBE-6FC20CAD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57A6B-BF68-42EB-A04F-B54CA45A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85DED-17F7-4544-8F44-32EB401A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E48F9-D474-4B09-887F-CBBC1FFB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1A91B-4617-44B6-9AD4-B04A69B1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FC56B-6C77-490E-8F5E-4675833A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4740E-2C15-4519-97B8-317BF73F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AE95A-EDBE-4078-B662-372CAE87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1F00B-115A-416F-B73B-F0B7D41B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4290B-D4E9-4BBF-8D1E-F1C66763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D8E96-89B4-4D7C-906E-A54B6A7B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714-42AC-4BEB-B9FB-0E28D6D8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2C3B6-A244-4CC2-88D0-BDB1F2BC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62C5C-9E83-4BFD-9A61-146D730C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1B674-F8AD-4F4E-B29F-6688E08F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CC38E-0086-46D2-A5BB-3606C816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880D1-C3B5-4CE4-86F7-AA564B4D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D554C-C619-4358-9368-9FA383B6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C4975-B0F8-4248-82BC-671A5DD8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C3180-B8F7-4DE9-82FF-75B6970B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2160A-0A53-4B36-A58E-507D5273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0EA82-7299-4020-AEB9-1911A7B9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2442-BB81-41F5-A70B-3618083D4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B60D-1B0D-461D-A438-BE668289FC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E645-03DB-4215-9B36-A531945524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8F70-130B-46DF-974E-0FA40A7815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BBB6-DD81-46AB-9225-A28F1E696B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FCBF-9C9C-4348-AFB1-D7309E6516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8AF7-46DC-4A5F-A37D-58C43E820C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B417-94E6-412D-97AC-92108CF9F4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FBD8-2F72-436C-848A-7E15AC3FF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8ABD-1CFA-4A84-B0CB-3F9D9B2DB7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4032-B123-428F-91F9-4B917A1B75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50D3-2F69-4B09-8C39-345B58CF56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A744-B835-455A-8B5B-1A1339219A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6547-E063-4EAA-B058-06FAE5F8DA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7765-1CAF-4BFE-928C-C579F932BC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7BCA-DFFE-4A0C-9D65-89C95CA939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275C-A1A9-4D3E-8BAC-697BBE7E41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8250-904E-472C-BB3D-F0BF229392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9524-32BF-43B1-BE60-84F83B76A2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51D6-2E9B-45EA-93A5-7BC50F5C7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06E8-81BC-4187-8649-D4B5A81435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D3EB-B4A5-4603-918E-DED56F932F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4E98-4403-472D-A008-6F63CEFE02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0DA4-AC84-4227-94CA-23F6E9740B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361F-D4BF-4397-A746-9458476C8F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7DC8-3D9B-490C-B2DC-BB0E1CDB3B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EEB6-0B83-4767-900D-460D46BAB1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7685-EBDA-4961-A836-2FD1F7D77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F598-3EA4-4A78-8B0B-4E147F7D9C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0095-7FF5-48EF-9622-598236B570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FEAA-DB22-4267-A8E5-8F36F2F90E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883D-FF36-49FC-8D0A-2877766289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8E83-D37D-42BB-88E4-E313D19798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1538-C52B-4F93-A23F-024CF657F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AC0D-998A-447F-8578-8344C859F3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7222-4B37-4BE4-8EFE-29F45DEAD2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F90D-A253-4D3C-A180-053E318DE4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8255-B9E7-44BE-BE54-520B395507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DAD8-62BA-4E07-A303-B32D38372F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507C-08DC-4900-9E3D-A49AA305BE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1285920" y="2071800"/>
            <a:ext cx="6629400" cy="11142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2500200" y="3214800"/>
            <a:ext cx="42958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990720" y="3138480"/>
            <a:ext cx="71625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433440" y="1204920"/>
            <a:ext cx="8277120" cy="444816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00080" y="29289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928800" y="478620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457200" y="1281240"/>
            <a:ext cx="8229600" cy="429552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928800" y="135720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928800" y="32148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857160" y="4714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642960" y="1071720"/>
            <a:ext cx="6819840" cy="7142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2" descr=""/>
          <p:cNvPicPr/>
          <p:nvPr/>
        </p:nvPicPr>
        <p:blipFill>
          <a:blip r:embed="rId2"/>
          <a:stretch/>
        </p:blipFill>
        <p:spPr>
          <a:xfrm>
            <a:off x="571680" y="1643040"/>
            <a:ext cx="8143560" cy="4267080"/>
          </a:xfrm>
          <a:prstGeom prst="rect">
            <a:avLst/>
          </a:prstGeom>
          <a:ln w="0">
            <a:noFill/>
          </a:ln>
        </p:spPr>
      </p:pic>
      <p:sp>
        <p:nvSpPr>
          <p:cNvPr id="1034" name="矩形 3"/>
          <p:cNvSpPr/>
          <p:nvPr/>
        </p:nvSpPr>
        <p:spPr>
          <a:xfrm>
            <a:off x="4786200" y="1643040"/>
            <a:ext cx="857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3368520" y="2106720"/>
            <a:ext cx="1714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5"/>
          <p:cNvSpPr/>
          <p:nvPr/>
        </p:nvSpPr>
        <p:spPr>
          <a:xfrm>
            <a:off x="5786280" y="3071880"/>
            <a:ext cx="857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6"/>
          <p:cNvSpPr/>
          <p:nvPr/>
        </p:nvSpPr>
        <p:spPr>
          <a:xfrm>
            <a:off x="2857680" y="400068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7"/>
          <p:cNvSpPr/>
          <p:nvPr/>
        </p:nvSpPr>
        <p:spPr>
          <a:xfrm>
            <a:off x="2532240" y="4995720"/>
            <a:ext cx="857160" cy="341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500040" y="733320"/>
            <a:ext cx="8201160" cy="612468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2225520" y="167796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3425760" y="167796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4714920" y="2606760"/>
            <a:ext cx="1643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"/>
          <p:cNvSpPr/>
          <p:nvPr/>
        </p:nvSpPr>
        <p:spPr>
          <a:xfrm>
            <a:off x="6951600" y="2639880"/>
            <a:ext cx="8571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6"/>
          <p:cNvSpPr/>
          <p:nvPr/>
        </p:nvSpPr>
        <p:spPr>
          <a:xfrm>
            <a:off x="2071800" y="357192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7"/>
          <p:cNvSpPr/>
          <p:nvPr/>
        </p:nvSpPr>
        <p:spPr>
          <a:xfrm>
            <a:off x="3643200" y="35719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8"/>
          <p:cNvSpPr/>
          <p:nvPr/>
        </p:nvSpPr>
        <p:spPr>
          <a:xfrm>
            <a:off x="4714920" y="3571920"/>
            <a:ext cx="1714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9"/>
          <p:cNvSpPr/>
          <p:nvPr/>
        </p:nvSpPr>
        <p:spPr>
          <a:xfrm>
            <a:off x="7143840" y="3571920"/>
            <a:ext cx="1071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0"/>
          <p:cNvSpPr/>
          <p:nvPr/>
        </p:nvSpPr>
        <p:spPr>
          <a:xfrm>
            <a:off x="2357280" y="5000760"/>
            <a:ext cx="857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1"/>
          <p:cNvSpPr/>
          <p:nvPr/>
        </p:nvSpPr>
        <p:spPr>
          <a:xfrm>
            <a:off x="4000680" y="5000760"/>
            <a:ext cx="1428480" cy="382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2"/>
          <p:cNvSpPr/>
          <p:nvPr/>
        </p:nvSpPr>
        <p:spPr>
          <a:xfrm>
            <a:off x="2679840" y="640404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13"/>
          <p:cNvSpPr/>
          <p:nvPr/>
        </p:nvSpPr>
        <p:spPr>
          <a:xfrm>
            <a:off x="4078440" y="641844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500040" y="800280"/>
            <a:ext cx="8229600" cy="6057720"/>
          </a:xfrm>
          <a:prstGeom prst="rect">
            <a:avLst/>
          </a:prstGeom>
          <a:ln w="0">
            <a:noFill/>
          </a:ln>
        </p:spPr>
      </p:pic>
      <p:sp>
        <p:nvSpPr>
          <p:cNvPr id="1053" name="矩形 2"/>
          <p:cNvSpPr/>
          <p:nvPr/>
        </p:nvSpPr>
        <p:spPr>
          <a:xfrm>
            <a:off x="2082960" y="496404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3"/>
          <p:cNvSpPr/>
          <p:nvPr/>
        </p:nvSpPr>
        <p:spPr>
          <a:xfrm>
            <a:off x="5429160" y="5429160"/>
            <a:ext cx="1071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4"/>
          <p:cNvSpPr/>
          <p:nvPr/>
        </p:nvSpPr>
        <p:spPr>
          <a:xfrm>
            <a:off x="6858000" y="5929200"/>
            <a:ext cx="8571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"/>
          <p:cNvSpPr/>
          <p:nvPr/>
        </p:nvSpPr>
        <p:spPr>
          <a:xfrm>
            <a:off x="6512040" y="6392880"/>
            <a:ext cx="98892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409680" y="1176480"/>
            <a:ext cx="8324640" cy="4505040"/>
          </a:xfrm>
          <a:prstGeom prst="rect">
            <a:avLst/>
          </a:prstGeom>
          <a:ln w="0">
            <a:noFill/>
          </a:ln>
        </p:spPr>
      </p:pic>
      <p:sp>
        <p:nvSpPr>
          <p:cNvPr id="1058" name="矩形 2"/>
          <p:cNvSpPr/>
          <p:nvPr/>
        </p:nvSpPr>
        <p:spPr>
          <a:xfrm>
            <a:off x="4357800" y="164304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3"/>
          <p:cNvSpPr/>
          <p:nvPr/>
        </p:nvSpPr>
        <p:spPr>
          <a:xfrm>
            <a:off x="5121360" y="263520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4"/>
          <p:cNvSpPr/>
          <p:nvPr/>
        </p:nvSpPr>
        <p:spPr>
          <a:xfrm>
            <a:off x="1285920" y="357192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5"/>
          <p:cNvSpPr/>
          <p:nvPr/>
        </p:nvSpPr>
        <p:spPr>
          <a:xfrm>
            <a:off x="3171960" y="406404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6"/>
          <p:cNvSpPr/>
          <p:nvPr/>
        </p:nvSpPr>
        <p:spPr>
          <a:xfrm>
            <a:off x="1285920" y="450072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7"/>
          <p:cNvSpPr/>
          <p:nvPr/>
        </p:nvSpPr>
        <p:spPr>
          <a:xfrm>
            <a:off x="4643280" y="500076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7:5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